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4345-F550-44C0-802D-5DD2ADD93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4559-ED5B-4A6C-8E32-4608A9D9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FEEF-E0AD-4023-AE54-BADBE4289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58A9-A12C-4F52-93BA-5920C324C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CC48C-34C3-4F71-9AB9-B96BCFD77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0385B-1D48-4813-9037-BA2D78B4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4D727-7BB1-414F-B3B4-6DEFDF38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8FB57-BA32-44C8-90BA-D84FF414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9BA72-E64B-44DD-B70B-5F0AD2BF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928D8-2D1C-4706-8789-70329B54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957EB-DEF7-4C8B-B7AB-83171DEC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A007-D4BA-4881-84E4-9954BF18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61AEB-1795-41AE-A783-E9EF9862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7EEF8-EB7C-4B94-89E4-9D063CCE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533A7-23E1-4545-B48D-2CA9FE9F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2C278-D413-4BBF-9A5F-23BA4D218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4727C-B31A-42E1-BE64-B2F7A579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A5A6-A26D-4E78-93DD-C4F712BB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A731-3026-48A3-8A65-BAA4A0E7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01C7-F72F-4111-82B5-01D0B73D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1933-EF57-4108-AB2B-8BF49017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1885-D4DC-45F2-BFB6-42666576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E8E2-9531-40BF-BD3F-6FD14BD1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0BC1-2A3D-4019-BEF5-B2C6B70F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0D49-F2BE-463A-864E-2F1A6C1BB4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7F00-6021-4EED-B198-77E83412B1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Butterflie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Kara Ad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1981080" cy="1752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629400" y="990720"/>
            <a:ext cx="1917720" cy="907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04920" y="3733920"/>
            <a:ext cx="2286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Hey! Do you want to learn about butterflies?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581280" y="3200400"/>
            <a:ext cx="193356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utterflies can grow to be 12 inches.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hey look like a leaf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38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12 inches long because they eat a lot of food each da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743200" y="3657600"/>
            <a:ext cx="327672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hey can be found world wide, even on the continent of North America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828800" y="2743200"/>
            <a:ext cx="2174760" cy="17240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867280" y="2438280"/>
            <a:ext cx="2952720" cy="3353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914400" y="4691160"/>
            <a:ext cx="487692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hey eat and drink a lot of times in a day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eat grass a lot of times in a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895480" y="3276720"/>
            <a:ext cx="3421080" cy="35812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705720" y="3048120"/>
            <a:ext cx="2038320" cy="3537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04920" y="2819520"/>
            <a:ext cx="2431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utterflies can get stuck in spider webs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get stuck in a web because they fly into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way they get stuck in the web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is all about butterfl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934320" y="2895480"/>
            <a:ext cx="2230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 that is all about butterflies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2971800"/>
            <a:ext cx="4419720" cy="3886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019920" y="3046320"/>
            <a:ext cx="342900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2T17:25:08Z</dcterms:modified>
  <cp:revision>4</cp:revision>
  <dc:subject/>
  <dc:title>Animal Name</dc:title>
</cp:coreProperties>
</file>